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54D5-7706-45E7-9A68-59ECC0C5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BA4D-8880-4D62-A128-F44C19E8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D6ED-C236-49F8-8C47-78B6FC9AB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B47C-4D17-4177-9725-BE4FBD1F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A657-0841-4EC1-846E-A7126CFC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BDE5-72B7-4EAB-A509-08124118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44BB-C6A1-45B8-8949-FE0082D6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230C-C539-44ED-AA42-3F3B0AF9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2269-D7A7-4C26-94A6-9FF21EF5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7ED8-6F4A-4689-8798-6C7CCFAD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B78D-C2F0-4FED-82B5-31DDC506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C4E8-5046-46D9-AE35-86697655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2EE53B-F6C2-47A5-89A1-71A65E3E49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278DAE-B2E9-4C42-9C2F-7ADD131173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houstonherald.com/news/electric-cooperatives-battling-copper-thefts/article_152b91ea-dc8e-11e0-ba4d-001cc4c002e0.html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implest Matter, Part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8</a:t>
            </a:r>
            <a:r>
              <a:rPr b="0" lang="en-US" sz="3200" spc="-1" strike="noStrike" baseline="30000">
                <a:solidFill>
                  <a:srgbClr val="898989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Grade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n ele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me an example of an e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rows called on the periodic tab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columns call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an atomic number tell yo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n isotop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element do these isotopes repres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do the red particles repres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do the white particles repres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re are the red and white particles located within an ato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5" descr="Hydrogen Isotopes.JPG"/>
          <p:cNvPicPr/>
          <p:nvPr/>
        </p:nvPicPr>
        <p:blipFill>
          <a:blip r:embed="rId1"/>
          <a:srcRect l="0" t="-22139" r="0" b="-22139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ss Num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do you find an atom’s mass number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is the mass number of Protium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is the mass number of Deuterium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is the mass number of Tritium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4" descr="Hydrogen Isotopes.JPG"/>
          <p:cNvPicPr/>
          <p:nvPr/>
        </p:nvPicPr>
        <p:blipFill>
          <a:blip r:embed="rId1"/>
          <a:srcRect l="0" t="-22139" r="0" b="-22139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ic mass is the weighted average mass of the isotopes of an el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4" descr="Lithium.jpg"/>
          <p:cNvPicPr/>
          <p:nvPr/>
        </p:nvPicPr>
        <p:blipFill>
          <a:blip r:embed="rId1"/>
          <a:srcRect l="0" t="-6029" r="0" b="-6029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ification of El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t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in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ood conductors of heat and electric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anyone tell me which two metals are used in electric distribution line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lectric Cooperatives Battling Copper Thef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lid at room temperature (except?..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lleable: Can be bent or pound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uctile: Can be drawn into wires without break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ification of Elements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alibri"/>
              </a:rPr>
              <a:t>Nonmetal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u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or conductors of heat and electric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ases at room temperature (except?..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rittle: Cannot change shape easi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*We are made up of mostly nonmetals (Carbon-18.5%, Calcium-1.5%, Nitrogen-3.2%, Hydrogen-9.5%, Other elements-2.3%, Oxygen-65%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ification of Elements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720720" indent="-720720" algn="ctr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etalloi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20720" indent="-72072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characteristics of metals and nonmet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0720" indent="-72072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0720" indent="-72072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conductors of heat and electricity, but not as good as met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0720" indent="-72072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ds at room temp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0720" indent="-72072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icon Val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0720" indent="-720720" algn="ctr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Silicon Computer Chip.jpg"/>
          <p:cNvPicPr/>
          <p:nvPr/>
        </p:nvPicPr>
        <p:blipFill>
          <a:blip r:embed="rId1"/>
          <a:stretch/>
        </p:blipFill>
        <p:spPr>
          <a:xfrm>
            <a:off x="5832360" y="4267080"/>
            <a:ext cx="310860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22:00Z</dcterms:created>
  <dc:creator>Cleophis Carson</dc:creator>
  <dc:description/>
  <dc:language>en-US</dc:language>
  <cp:lastModifiedBy>Cleophis Carson</cp:lastModifiedBy>
  <dcterms:modified xsi:type="dcterms:W3CDTF">2011-09-12T10:03:57Z</dcterms:modified>
  <cp:revision>1</cp:revision>
  <dc:subject/>
  <dc:title>The Simplest Matter, Part 2</dc:title>
</cp:coreProperties>
</file>